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34071"/>
        <c:axId val="39043821"/>
      </c:barChart>
      <c:catAx>
        <c:axId val="95234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43821"/>
        <c:crosses val="autoZero"/>
        <c:auto val="1"/>
        <c:lblAlgn val="ctr"/>
        <c:lblOffset val="100"/>
        <c:noMultiLvlLbl val="0"/>
      </c:catAx>
      <c:valAx>
        <c:axId val="39043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34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25F-56E9-455E-BAE3-1DFCDC6C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00F-925B-4761-93EA-920C894F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BDB-4697-4FA7-8B2A-28B4A6D7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B16-1A82-49B0-A9EA-AFA6AED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837-2CE8-40E1-8235-84839637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AA2-9434-4E07-9E77-80C3BD9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B4C-C1FC-44AB-9C31-6500B1C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51B-2D01-4ACC-A63D-3A9E2A8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BF7-FE23-4BCA-AADE-1DD9B483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CB5-7930-4D13-9D04-D994346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B29-B200-402A-97A2-7CA510F2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6A4-2570-4362-91EA-569FD3AC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369E3-17EB-4A99-BB02-2EF43B7CC2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